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CAC-D306-4889-87E5-9F272D2B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92F-A46E-4CF6-8908-C1D08A4E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139-A7B3-4DAE-B0D7-1B0E2BC3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5A1-75D7-4385-9DD6-4B91B61A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D154-393F-4B27-8434-B17C1708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A2D9-B268-4411-98F9-4EAE2F73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AEEE-11C7-4FBA-932D-F763167C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8627-9ED3-4EA8-A53F-EA5C0C93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B8AF-74C2-4323-8AEE-70ED2127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75EF-D034-4168-B9F0-A9E75EDA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7408-A69C-4407-84D8-07E60D29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394-C756-4247-8424-E7AD199E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F4FF-0BC1-4E3B-B313-5802E8F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5691-8707-4597-B307-756BD0FC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4E28-4E62-455A-A80D-6CB9C25B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9B03-914D-4957-8FDD-595EF130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BF29-0EAB-4945-A57E-040260D8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56A-F1CA-4F82-B538-00392D31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3B2-23E9-4B95-86C2-93E4202A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9FD-2F5F-4D0E-821E-6893346C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46A-4BAE-47ED-83E7-4066BC79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7D7-DADE-4E39-BEA7-8602435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CE4-DBC1-475B-AF8E-C7D6568B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791-B59A-4427-A658-E3EDBEA5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916F-337B-4A09-8D22-46C8EB5D6FB6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B11F-839B-4F23-8FD8-DAFDC971A491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aking Connections Beyond the Classroom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0400" y="3809880"/>
            <a:ext cx="5410080" cy="19814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ology Integration in the Language Arts Classr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a Goodrich and Mary H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609480"/>
            <a:ext cx="807732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t has taught me ways to interact in a more academic manner”(Dennis 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t keeps me interested in what we are studying.  I pay more attention and put thought into my writing” (Jose F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do you feel Moodle could help you beyond the classroo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make me a better person to work with in a group” (Graham F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ill make me be able to take criticism and learn from it” (Tajh R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8120"/>
            <a:ext cx="7696080" cy="838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t has taught me how to communicate effectively with people in other areas” (David G.)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“I think this tool will help me in the business world.  Not all communication is done face to face” (RaeAnn E.)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xamples of Student Respons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066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ources--Collaboration on the Web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globalschoolnet.org/index.cf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takingitglobal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epal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think.com/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necting Two Classrooms from Separate Distric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ed a partnership with Warwick High Sch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zed Moodle (a course management syste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med two English II classrooms with students of a similar ability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inding a Collaborative Partn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discussing with my CFF Coach, I knew what I wanted out of my unit.  My CFF Coach posted my goal on a List Serv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a few days, my request was answered and initial communication took plac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Unit Desig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itially, we utilized a conference call to discuss expectations and desires for the uni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utilized email for follow up discuss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osted our essential questions in Moodle.  We both had access to the courses and could make additions and corrections as necessa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igned essential questions regarding the unit of stu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897200"/>
            <a:ext cx="82296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tablished forum requirements to which each student must ad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1989000"/>
            <a:ext cx="88394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the students are saying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 you like most about using Moodl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communicate with other students at others schools, educationally” (Danielle M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ike how you can interact with people from other schools. I like how you can give your opinion on certain topics and how you get feedback on what you write” (Kathy D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819520"/>
            <a:ext cx="84452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t (Moodle) can help me form ideas about complicated things that I’m reading” (Khelsea B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 like that you get to meet new people and see how different and the same they are to you” (Jessie D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has Moodle helped to strengthen your English skill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has helped me to understand what we’re learning more by reading and replying to other people’s responses” (Sarah H.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has helped me to read more closely.  It has also helped my writing skills” (Matt 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5:02:04Z</dcterms:created>
  <dc:creator>cysd cysd</dc:creator>
  <dc:description/>
  <dc:language>en-US</dc:language>
  <cp:lastModifiedBy>cysd cysd</cp:lastModifiedBy>
  <cp:lastPrinted>2007-05-14T22:44:24Z</cp:lastPrinted>
  <dcterms:modified xsi:type="dcterms:W3CDTF">2008-01-29T02:03:15Z</dcterms:modified>
  <cp:revision>9</cp:revision>
  <dc:subject/>
  <dc:title>Making Connections Beyond the Classroom:</dc:title>
</cp:coreProperties>
</file>